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3E3-95CC-4E49-9253-6147B547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3F1-B195-46E0-BE62-FDD6A873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5FC74-5077-452C-86C1-F20A48C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6E25F-3EF1-44D9-A61D-831E16B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FC7B-8298-4B30-B5AE-1DF80A6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0D9B-096C-4CC8-A3BD-2FDDF49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AAEC-B700-44A8-9827-C586E28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6C83F-EA11-4695-9AA1-30378E1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F7336-E453-49BC-A307-57B4E7C3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75B8A-FC15-4561-81F1-84A2A465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F2060-7552-4FDD-8896-2D83DD4B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6EEE4-C492-4CC0-BA25-4D899F49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E0C-397E-4FA6-AE41-EC14DE0A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B8504-DAC6-4F31-A582-D0719824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5D8C2-E8D9-43BA-ABFC-0DF19D9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86DC5-5824-475D-AE27-97778EA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E0AE8-290D-4658-B49E-A1F3930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5B77-1F7D-42A3-9487-04EB403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4485F-4947-4A4C-B794-3DE369A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1DD8-2EF6-4831-B8C6-2440941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7B85A-CBA5-4A8C-9AE8-3DB13C7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4DE58-63FA-47B7-B0AF-7E0BD5AE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75B17-0BE6-4F82-9CC8-89AF4E16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55D-B91C-41AD-B6A8-E3F79EE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CCDC3-7241-4CAC-8754-64523BBB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3F8D6-D78D-4D63-9320-BDEEB5A2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87B3-8AD1-4B64-8D78-61010BF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C27E-85D7-4C6F-9560-03CC8EA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1BB6-FC53-4260-AB5A-9AB3132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EC666-404A-4EA4-881A-0C844F00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8FC37-9015-4719-A584-41E0E6C8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3577C-E547-4393-817B-B162FBE8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8A28-3846-41A0-BB6D-06E96BF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CE767-8826-4C4E-9D13-91F728F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3B7-78D7-45B2-8AD7-FE7E8F8B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93215-12D7-43ED-B031-44B87DD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92F0C-DF15-4AE9-882B-C6A685FA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74C6F-70B4-4F42-ABFD-6074C369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786BE-104F-4944-A16F-6191402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1427-2913-46B3-AF41-B4AF7FA2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32F76-FE66-424B-BD58-7C0FB4F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F89AB-8A91-4A37-900E-FAB6C73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704B7-DA1D-4BBF-8244-289753C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C92C3-D88A-4EA1-898B-520DE9FF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69496-7E87-4818-B03B-633D272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51A-58E6-4768-95A2-D366894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840C-AE3D-43B4-9B63-56C0F8A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D38D0-75DD-4932-B6A3-35A4EA3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4A521-CE49-44A6-B23C-3DE3046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306DC-E8DB-4D66-AB7C-41E6FCAC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18001-4FC6-479D-86D8-C8668861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81EB-00C9-4702-9107-88875634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D82-A619-4AA0-A2C7-C4B8734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3F91-B2F9-4B00-8678-02BEC40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1A8-7411-45D2-813A-864DE40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7FD-A47A-4F10-8143-0169358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0A4-FAA7-4E82-AD09-4FFFC093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02F9-04D5-4A1F-BD4E-E73E4B1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2DDF-644C-4089-A841-27F287B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F2CC-F749-4520-AC05-22A805ED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D173-DD51-4D22-B213-857F5511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47E3-EEB8-422D-A829-423D5E4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B16C-E0D0-4F7C-A2B5-E6E1D4B2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483B-6BBD-4299-AA48-B2A8140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FD97-BD65-4C6F-A568-A5BC9D5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4B18-096D-4C38-9458-A8FB7D8A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2CDC-C54B-4FE6-B971-106E0A5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55B-1B78-4D29-AA3C-9D94D40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CDAB-526C-417B-B1B6-984C4ED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A1C3-A8F1-4DDC-8196-CDFB36D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E86C-7EFC-480F-9A58-D966085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CA2D-88B7-47AA-BE55-793B003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5C66-484D-4FC7-9199-89DEB29D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CB04-9A5E-402E-A055-883A06BD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4513-D3EB-47F2-B2E5-0FA12805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3B94-0D30-4B3B-A308-F141624F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500C-4FB7-4D83-808E-6E32F0D1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123A-C24D-44D7-95C1-DC2EED4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E91-99F1-4013-9944-5899290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3C64-1DD0-4903-939C-3AC7FC1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5CB5-84EE-4AD0-8362-7D26DBBC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2D0C-E2EB-4C4F-B9D9-E668ED9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B1A1-3022-4607-AE26-75BBE7F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DEDF-F84B-44AB-8899-CD33BAB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C022-2061-4A91-8495-58C28DF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7920-1104-4BFF-9FC8-A166624B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1278-27A7-40AC-BE19-475DB3A0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07CD-C917-4628-A2E4-D7DB2573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71BD-DAB6-44A2-9383-D715973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34C-15DC-497A-8263-19ED303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5B42-E400-4832-AD09-39CF170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BD05-A0C0-4AF5-AD06-76F8084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E004-0FDB-463E-90AB-95D3CAC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ADA5-64BA-4A68-ACB7-E4E7C07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6943-033A-442D-B3AE-7D740955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63D3-7DD8-4490-8DB5-EEEE887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D53F-0165-4E1E-BFF5-69C83610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AB7C3-F4C1-4427-81BC-8B18DB1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A2E9-41FE-463E-B565-858124B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EBC1-DF76-4075-9BD1-7AFF07DA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C73-CE43-4AB7-9536-581E2C6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EF4A-9CCD-49DD-9531-9522ABA2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96E7-59D6-47C4-9B01-00B6BCB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F046-DFBB-4D3A-8549-C387AC2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999F-6E37-458B-B68A-A35D75D4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5518-2D3A-419C-904C-F6E9521F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8C91-8E45-412F-99A3-DA44DE6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0E2E-735D-4337-B824-2D23E35D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7A12-0CDF-4A8D-A4C3-4C44B29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6716-0006-4008-81B9-468708C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9B54-1067-4BD2-A6EE-DCAC8D9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1EB-B550-4309-B18D-566A3ED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3AB7-CF82-45BA-9529-54BCFEC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188E-A554-4032-8FE4-539A23DD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6C43-FEB1-46E6-8F65-1B434904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AA41-52A4-48D4-9516-2A4C0611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F131-FFE4-4C0D-9AD7-100ACE9C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7DE4-1948-487E-A990-83896EE8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985B9-8B07-42AE-A36A-B546F70F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9A8B-6D5D-4044-AAE6-C202B81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4D6F-4C8D-414A-A15D-2230CACF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AF59F-554C-4FE3-A266-71ABAB5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A2A-6D3D-4E3D-A0B0-6095217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C6FA-6277-434E-9660-19BA7B6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E7D4-80D3-4420-BCA8-35C2278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1CCE6-D301-4EC3-B144-6DEA678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1565-27E2-4BD6-A9F0-9A4B490E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AC25-E0EF-4DA8-9214-7CA6298F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A4CD-2041-4C86-8E15-962FC500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42D1F-D769-4E6F-B217-DB2AFD4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A1D6-7CE0-4572-BBD3-5B23CDB4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40AEE-B36C-4C75-A406-D086A3F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46E6-19F4-45EF-ABAB-EF646AB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994-F9AF-4CD1-8530-54CD3E2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011A-DA3A-4C56-8315-62EB9BB3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0AAC8-0BE7-43F4-9B53-EC26155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BF98-D01C-4CC9-91A9-4C30049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F772-D213-4DB9-8796-7D2F113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6811-B3D2-4253-AE3B-4858A61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6F0C-BDD5-4D88-9E0B-9F44F87B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5447-EC62-4644-B84B-F80448AF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9C094-9AC4-4A80-A876-A455D49F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AFB1-5DA0-4826-B7E1-C66E179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BD66E-8D86-4A34-A0C1-052F502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38C-48C6-4D38-B046-A757715F5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EE1-A73E-47BB-9B17-D1437FB3B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534-F500-44E2-BF09-876BBD0B54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DFA-D7CD-45C0-A1C4-D7BB6862A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197-98F5-420B-A8D9-480963861B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1F1-3C7B-48B2-A837-5E72307AA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EBC0-30A7-4DAC-BDFC-E3432FE9D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140-2FE8-4A18-8917-81F1F77AAB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A57-BD09-4744-8A2A-9C9F0F534C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F924-AABE-4F91-A334-6B5B221BE9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A3B-ECE9-465F-8B24-04D6753B03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F92-DDD9-42E4-91D9-7CE440316F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офессиональный стандарт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651280" y="4741920"/>
            <a:ext cx="2447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87200" y="1052280"/>
            <a:ext cx="8948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Эффективно управлять классами, с целью вовлечения учеников в процесс обучения и воспитания, мотивируя их учебно-позна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станавливать четкие правила поведения в классе в соответствии с уставом и правилами поведения в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Оказывать всестороннюю помощь и поддержку в организации ученических органов само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ть общаться с детьми, признавая их достоинство, понимая и принима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ть строить воспитательную деятельность с учетом культурных различий детей, половозрастных и индивидуаль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меть поддерживать конструктивные воспитательные усилия родителей (лиц, их заменяющих) учащихся, привлекать семью к решению вопросов воспитан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ть защищать достоинство и интересы учащихся, помогать детям, оказавшимся в конфликтной ситуации и/или неблагоприят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ть третья: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Готовность принять разных детей,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пособность в ходе наблюдения выявлять разнообразные проблемы детей, связанные с особенностями их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пособность оказать адресную помощь ребенку своими педагогическими при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505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товность к взаимодействию с другими специалистами в рамках психолого-медико-педагогического консил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мение читать документацию специалистов (психологов, дефектологов, логопедов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ние составлять совместно с другими специалистами программу индивидуаль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ние специальными методиками, позволяющими проводить коррекционно-развивающ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ние отслеживать динамику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ние защитить тех, кого в детском коллективе не прини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Знание общих закономерностей развития личности и проявления личностных свойств, психологических законов периодизации и кризисов развития, возрастных особен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ние 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Умение проектировать психологически безопасную и комфортную образовательную среду, знать и уметь проводить профилактику различных форм насилия в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Владение элементарными приемами психодиагностики личностных характеристик и возрастных особенностей учащихся, осуществление совместно с психологом мониторинга личностных характеристик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Умение (совместно с психологом и другими специалистами) составить психолого-педагогическую характеристику (портрет) лич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Умение разрабатывать и реализовывать индивидуальные программы развития с учетом личностных и возрастных особенностей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6. Умение формировать и развивать универсальные учебные действия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 (по международным нормам)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7. Владение психолого-педагогическими технологиями 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84360" y="1267920"/>
            <a:ext cx="82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Умение формировать детско-взрослые сообщества, знание их социально-психологических особенностей и закономерностей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Знание основных закономерностей семейных отношений, позволяющих эффективно работать с родительской обществ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о-педагогические треб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 квалификации учите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своить ряд фундаментальных понятий из психологии личности, возрастной и педагогической психологии, определяющих результаты образовательного процесса, степень развития метапредметных компетенций, уровень и показатели социализации личности, ее развития, в том числе следую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ая и социальная идент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прав и свобод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ценностей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ы и нормы просоциального поведения, в том числе в виртуальной и поликультур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и стадий и параметры кризисов возрастного и личност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коммуникативной компетент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истемы регуляции поведения и деятель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и становление учебной мотивации и системы универсальных учебных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освоения и смены видов ведуще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детско-взрослых сооб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ление картины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цепция и 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емительно меняющемся открытом мире главным профессиональным качеством, которое педагог должен постоянно демонстрировать своим ученикам, становится умени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нового профессионального стандарта педагога должно неизбежно повлечь за собой изменение стандартов его подготовки и переподготовки в высшей школе и в центрах повышения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стандарт повышает ответственность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ценки выполнени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й профессиональн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а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ая оценка профессиональной деятельности педагога производится по результатам обучения, воспитания и развития учащихся. Производя такую комплексную оценку, необходимо учитывать уровни образования, склонности и способности детей, особенности их развития и реальные учебные возмо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, в оценке работы педагога с сохранными, способными учащимися в качестве критериев могут рассматриваться высокие учебные достижения и победы в олимпиадах разного уров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отношению к учащимся, имеющим особенности и ограниченные возможности, в качестве критериев успешной работы педагогами совместно с психологами могут рассматриваться интегративные показатели, свидетельствующие о положительной динамике развития ребенка. (Был – стал.) Или, в особо сложных случаях (например, ребенок с синдром Дауна), о сохранении его психоэмоционального стат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23640" y="98064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я профессиональные качества педагога, необходимо обеспечить обратную связь с потребителями его деятельности. В качестве таких потребителей выступают сами учащиеся и их родители. Отсюда следует, что оценка деятельности педагога выходит за узкие ведомственные рамки и требует закрепления организационных форм и соответствующего им порядка проведения, обеспечивающего общественное участие в этой процед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1196640"/>
            <a:ext cx="8713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соответствия требованиям, предъявляемым к педагогу, может быть проведена посредством внутреннего аудита, включающего анализ планов и отчетов, посещение проводимых им уроков, или в иной форме. Сбор данных для оценивания может быть осуществлен посредством результативного опроса, выслушивания, наблюдений и анализа документов, записей и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енние аудиторы образовательного учреждения должны назначаться из числа наиболее уважаемых и авторитетных педагогов  данного учреждения и быть обучены принципам, процедурам и методам проведения аудитов. Объем и частота проведения внутреннего аудита в отношении конкретного педагога устанавливаются самой образовательной организацией, исходя из ее политики в области повышения качества образовательных услу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ы внутренних аудитов должны учитываться при проведении государственной аттестации педагога и присвоении ему соответствующей катего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ключительные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9280" y="112500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рофессионального стандарта педагога предоставляет регионам РФ и образовательным организациям дополнительные степени свободы, вместе с тем накладывая на них серьезную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е органы управления образованием совместно с профессиональным сообществом могут разработать дополнения к нему. В свою очередь, образовательные организации имеют возможность сформулировать свои внутренние стандарты, на основе которых нужно будет разработать и принять локальные нормативные акты, закрепляющие требования к квалификации педагогов, соответствующие задачам данной образовательной организации и специфике ее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чем нужен профессиональны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реализации стратегии образования в меняющемся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бъективный измеритель квалификаци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средство отбора педагогических кадров в учрежде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полн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ого стандарта учите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ми компетенци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условиях реализации программ инклюзив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86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а станд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ый стандарт педагога – рамочный документ, в котором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ования к его квал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ациональная рамка стандарта может быть дополнена региональными требованиями, внутренним стандартом образовательного учреждения, в соответствии со спецификой реализуемых в данном учреждении образователь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сть 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 в образовательное уч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образовательных учреждений региональными органами исполнительной власти, осуществляющими управление в сфере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профессиональног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ндарта педагог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первая: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9280" y="1916280"/>
            <a:ext cx="885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ть высшее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овать знание предмета и програм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 планировать, проводить уроки, анализировать их эффективность (самоанализ уро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ть формами и методами обучения, выходящими за рамки уроков: лабораторные эксперименты, полевая практика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5280" y="1268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ть объективно оценивать знания учеников, используя разные формы и методы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ть ИКТ-компетен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 вторая: воспита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9280" y="1125360"/>
            <a:ext cx="8785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ладеть формами и методами воспитательной работы, используя их как на уроке, так и во внекласс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ладеть методами организации экскурсий, походов и экспе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ладеть методами музейной педагогики, используя их для расширения кругозора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Эффективно регулировать поведение учащихся для обеспечения безопасной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7:01:59Z</dcterms:created>
  <dc:creator>НВ</dc:creator>
  <dc:description/>
  <dc:language>en-US</dc:language>
  <cp:lastModifiedBy>USERZAV</cp:lastModifiedBy>
  <dcterms:modified xsi:type="dcterms:W3CDTF">2015-11-23T12:27:52Z</dcterms:modified>
  <cp:revision>16</cp:revision>
  <dc:subject/>
  <dc:title>Профессиональный стандарт педагога</dc:title>
</cp:coreProperties>
</file>